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94B-5FE9-486C-AEE5-2E260439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4CF-32B0-4164-9D0A-7EAB711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76B-E002-413E-9EE1-5F40DDB2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77C-5F27-4CDD-955D-7C160EA2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E51-42AD-4D54-AC90-92EA5F68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88F-4183-4919-8D81-498D0E1C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EB8-8100-4462-8516-1F4EC2DB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98F-7557-442B-A3DC-0BAA14B2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244-EC0A-4CF3-8D83-1FCDDA1D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181-940B-4A7C-9F15-96DAF2F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AC4-8E49-4FC5-8BF1-54429ECF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48C-5DF1-4782-BDE0-7B94F303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7A7A-83AA-4EDC-BDF6-5746B4C8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: Mme Jo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n mets préféré es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6000" spc="-1" strike="noStrike">
                <a:solidFill>
                  <a:srgbClr val="000000"/>
                </a:solidFill>
                <a:latin typeface="Arial"/>
              </a:rPr>
              <a:t>La piz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15:28Z</dcterms:created>
  <dc:creator>Generic</dc:creator>
  <dc:description/>
  <dc:language>en-US</dc:language>
  <cp:lastModifiedBy>Josée Meunier</cp:lastModifiedBy>
  <dcterms:modified xsi:type="dcterms:W3CDTF">2007-11-20T01:24:28Z</dcterms:modified>
  <cp:revision>4</cp:revision>
  <dc:subject/>
  <dc:title>Nom:</dc:title>
</cp:coreProperties>
</file>